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3B0-D5F3-40BF-8C62-270583EA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D5B-3207-4B32-A8F5-4FBAA702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77F-0926-4BDE-A2E0-0BA33819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5BB-5164-4AD7-B7B4-1BEDFA57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1BB-6D22-45DD-A2C5-5B8905D2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46C-6EFC-4278-8E04-5B1D405E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A9F-E760-4758-8797-52F6F67E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3F7-D242-4C42-A505-1C851C47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D69-EF45-481E-85BB-55098119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CC3-3E13-4AAD-9FE2-7FC3DD2C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3C2-2387-4560-9293-53553C3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F60-5C21-4A5D-9908-88A62864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F5F-D78D-4939-A653-45275D983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ical Houses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helsea Hockenhu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0:28:52Z</dcterms:created>
  <dc:creator> </dc:creator>
  <dc:description/>
  <dc:language>en-US</dc:language>
  <cp:lastModifiedBy> </cp:lastModifiedBy>
  <dcterms:modified xsi:type="dcterms:W3CDTF">2009-08-24T08:06:51Z</dcterms:modified>
  <cp:revision>23</cp:revision>
  <dc:subject/>
  <dc:title>Historical Houses Assignment</dc:title>
</cp:coreProperties>
</file>